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4A71-97CF-45D3-9B82-005D1B8CE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7B05-E6B0-40E7-A043-075F172B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FE78-5468-4F05-8A6A-1B0AD71C8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B5F7-5FCB-4CA4-989A-7975D7504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678A-41C9-4103-8426-1C760964C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06C2-B6EF-493E-BC09-91A15DC69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6EC2-E319-401F-AEB2-679338CE9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FCE-52D4-4C89-8DC0-5FB02C777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02C1-750B-4830-A24C-798DCD73D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30BB-AC2A-4426-84DC-B3BBEC60D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835-A9F4-4FB3-A009-ECFEEF21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641-FB10-4039-A089-D7645BB4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006-DDA3-4D6F-B619-BBA86E9A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8C8-6C5A-480A-A0A8-800749C8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3C9-3A64-4BB3-91D2-8E3F0A4D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148-F30A-4B27-AC79-3A6C6105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293-F951-4ACE-98F1-92DD2254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412-3575-475D-B8D2-9763621D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9C1-A525-4A0D-BC72-D065BECF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8D2-EBF8-41EA-ADBC-7790F428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D3B-5A09-4A67-B160-4AAB5569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072-B46B-417E-8B99-7631AB5A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1A48-3EDC-4A00-ADC7-5A34E70C6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14400" y="762120"/>
            <a:ext cx="76201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rony vs. Ambiguity</a:t>
            </a:r>
            <a:endParaRPr b="1" lang="en-US" sz="4800" spc="1" strike="noStrike">
              <a:ln w="2844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62120" y="3124080"/>
            <a:ext cx="7696080" cy="31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mbigu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mbiguous) - when the meaning is unclear or you’re not sure of the meaning or intention because it could mean more than one thing.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romise I’ll give you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morr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oinci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n someting just happens to occur at the same time as something else, for example thinking about eating a donut and all of a sudden you see a donut shop o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ad Ti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unfortunate pairing of situations, like a ship’s radio operator going to bed early the same night that another  ship is sinking near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04920" y="3808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52280" y="1522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iro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s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eaker says something different from what he or she really belie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be sarcasm or exagge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fter eating a really terrible m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the best cook ever! How did you get that salsa tasting so amaz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2590920"/>
            <a:ext cx="8534520" cy="411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al iro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tuation is different than common sense makes it to b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n tries to shoot Ronald Reagan as he steps out of his car. He misses the President, but the bullets hit the bullet-proof windows of the car and rebound to hit him anyway. The glass that was supposed to protect the president actually causes him to be sh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pass out buttons to promote better product safety. They have to recall the buttons because they have sharp pins that keep stabbing the people who wea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457200" y="685800"/>
            <a:ext cx="838188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Cor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dwin Arlington Robin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ever Richard Cory went down tow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eople on the pavement looked at him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a gentleman from sole to crow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 favored, and imperially sl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e was always quietly arrayed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e was always human when he talked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till he fluttered pulses when he said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Good-morning," and he glittered when he walk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e was rich - yes, richer than a king 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dmirably schooled in every grace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ine we thought that he was everyth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us wish that we were in his pl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on we worked, and waited for the ligh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nt without the meat, and cursed the bread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ichard Cory, one calm summer nigh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t home and put a bullet through his he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mdisast"/>
          <p:cNvPicPr/>
          <p:nvPr/>
        </p:nvPicPr>
        <p:blipFill>
          <a:blip r:embed="rId1"/>
          <a:stretch/>
        </p:blipFill>
        <p:spPr>
          <a:xfrm>
            <a:off x="5334120" y="380880"/>
            <a:ext cx="30765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pod_20041003"/>
          <p:cNvPicPr/>
          <p:nvPr/>
        </p:nvPicPr>
        <p:blipFill>
          <a:blip r:embed="rId1"/>
          <a:stretch/>
        </p:blipFill>
        <p:spPr>
          <a:xfrm>
            <a:off x="1676520" y="228600"/>
            <a:ext cx="5408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228600" y="135000"/>
            <a:ext cx="868680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nis Morissette -  Ir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old man, turned 98, He won the lottery, and died the next da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's a black fly in your chardonnay, It's a death row pardon, two minutes too late, And isn't it ironic?   Don't you think?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rain: It's like rain, on your wedding day, It's a free ride, when you've already paid, It's the good advice, that you just didn't take, And who would've thought? It figure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. Play-It-Safe, was afraid to fly, He packed his suitcase, and kissed his kids goodbye, He waited his whole damn life, to take that fl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as the plane crashed down he thought, "Well isn't this nice"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isn't it ironic?  Don't you think?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efrain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l life has a funny way of sneaking up on you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you think everything's okay and everything's going r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life has a funny way of helping you ou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you think everything's gone wrong and everything blows up in your fac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traffic jam, when you're already late, A no smoking sign, on your cigarette break, It's like ten thousand spoons, when all you need is a knif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's meeting the man of your dreams, and then meeting his beautiful wif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isn't it ironic? Don't you think?  A little too ironic?  Yeah I really do think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efrain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e has a funny way of sneaking up on you, And life has a funny, funny way of helping you out, Helping you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ronic708949"/>
          <p:cNvPicPr/>
          <p:nvPr/>
        </p:nvPicPr>
        <p:blipFill>
          <a:blip r:embed="rId1"/>
          <a:stretch/>
        </p:blipFill>
        <p:spPr>
          <a:xfrm>
            <a:off x="7086600" y="2514600"/>
            <a:ext cx="164772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10 - Ironic.mp3" descr=""/>
          <p:cNvPicPr/>
          <p:nvPr/>
        </p:nvPicPr>
        <p:blipFill>
          <a:blip r:embed="rId2"/>
          <a:stretch/>
        </p:blipFill>
        <p:spPr>
          <a:xfrm>
            <a:off x="64008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650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vsh0029l"/>
          <p:cNvPicPr/>
          <p:nvPr/>
        </p:nvPicPr>
        <p:blipFill>
          <a:blip r:embed="rId1"/>
          <a:stretch/>
        </p:blipFill>
        <p:spPr>
          <a:xfrm>
            <a:off x="2062080" y="228600"/>
            <a:ext cx="5929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04920" y="6324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mban904l"/>
          <p:cNvPicPr/>
          <p:nvPr/>
        </p:nvPicPr>
        <p:blipFill>
          <a:blip r:embed="rId1"/>
          <a:stretch/>
        </p:blipFill>
        <p:spPr>
          <a:xfrm>
            <a:off x="1905120" y="0"/>
            <a:ext cx="5438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za0824l"/>
          <p:cNvPicPr/>
          <p:nvPr/>
        </p:nvPicPr>
        <p:blipFill>
          <a:blip r:embed="rId1"/>
          <a:stretch/>
        </p:blipFill>
        <p:spPr>
          <a:xfrm>
            <a:off x="838080" y="304920"/>
            <a:ext cx="77724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cza0823l"/>
          <p:cNvPicPr/>
          <p:nvPr/>
        </p:nvPicPr>
        <p:blipFill>
          <a:blip r:embed="rId1"/>
          <a:stretch/>
        </p:blipFill>
        <p:spPr>
          <a:xfrm>
            <a:off x="990720" y="304920"/>
            <a:ext cx="777240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1:47:46Z</dcterms:created>
  <dc:creator>CATHY CARPENTER</dc:creator>
  <dc:description/>
  <dc:language>en-US</dc:language>
  <cp:lastModifiedBy>Dan Olsen</cp:lastModifiedBy>
  <dcterms:modified xsi:type="dcterms:W3CDTF">2011-04-05T13:03:32Z</dcterms:modified>
  <cp:revision>14</cp:revision>
  <dc:subject/>
  <dc:title>Slide 1</dc:title>
</cp:coreProperties>
</file>